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3.jpeg" ContentType="image/jpeg"/>
  <Override PartName="/ppt/media/image18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17.jpeg" ContentType="image/jpeg"/>
  <Override PartName="/ppt/media/image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06AE-4B62-437F-93C4-35EAF8983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7EB0-EBA0-471F-873C-C1CC36384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D5B382-67AA-40BC-A2AC-D0BEC2794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A85855-4823-4AB7-93DD-6931F3D24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150E41-0554-42AC-A2F4-8727D06B7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184CE8-94D4-4B06-9096-7DA04F10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80F9B0-2DDD-4334-A7FF-5CFF4CF6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3BDAB3-7F2C-4803-9E0B-B2B9D8EB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C250F2-3C36-4544-8B0F-D8D35F797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466BBC-D36C-4E5B-AA01-74D73452A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C9F8EE-88C8-4724-8213-FF5C1C87D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685A-3ECB-4098-956E-BD19F5806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01A3-166F-4FD2-94D5-C5B928738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0F845-0951-4438-B8A4-728F2DBB9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FDC86-EA7D-4168-AFB6-CCF24E602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CC4B5-DD46-463D-82C3-4B0766D18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1AE5B-FCAA-49EA-9D9E-FD126631B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3A0EF-34D2-4F7A-8875-A5981D6DD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69FF2-8902-489E-83FC-0A35BFEF4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B8A9D-7FB9-4E43-93C7-97F8B954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41D4-0214-4A4B-B6B9-4881259C3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C2BF8-3D84-4AF0-922D-2318AFEC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1B819-A5DC-4515-8B7D-9CE652C2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0AAA8-6920-4B9E-9477-8DD6DDBCD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CE9E9-3FED-4B1D-9913-64106609C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C336E-1B27-49B8-A5BE-667CA751F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406C4-6B43-4CB6-A5F8-6646AD1B2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BF945-05D0-43CE-8A7F-9A234FC45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AFBE1-2648-482E-8454-8CD21A43D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0F8A7-7206-4756-A2E3-917568495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BBA41-0993-414F-8843-4AB9A7D14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AB68-7EA6-4D55-BEFB-95E152CB0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CC50B-188A-4A38-8765-BF4DE0B20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D9B1B-8024-476E-8529-21A49F9F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1C15D-DCA3-458E-B94F-753E6C3B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2568E-03B1-467C-9CB7-EF5CE769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7F124-446B-40F1-9DA7-B1D8FBB8E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830F6-C1F9-42BC-8FB1-DC61779C2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3FAFB-C40D-454C-9237-0E31792F5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B0ECA-77B0-41EB-86E5-01BFB420A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0E5DA-29D9-46EE-BEF8-751BAA70E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38FC9-AE74-4DE3-B332-CE518EE8F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986D-F3A8-4D93-B5B5-C4AEB853E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F24E9-1C16-405D-8838-1D69F9825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939F1-AA4D-40A0-B36D-C5A955DE1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AA00C-834D-4BE2-92D0-B420C7B18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4D81F-BF73-4F8F-856B-4277A8AA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A21DC-0DD8-47A8-B97F-E260E277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5F2A2-8FD1-43DE-9D2A-1EF8C350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80F09-759A-4B15-B703-05306D31C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1C91A-6A96-4C40-ADA0-4B19ECC4C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AF93A-0E4B-4F6E-88B0-3C5FDE637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5B162-CD38-4161-B7DD-67138718D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F567-1A4B-4F43-84D3-76E9D4A8B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CF12B-A2EE-414B-87B9-149122D20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D61B3-2CDC-4870-9E94-D0BED4F16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DC888-9850-45A3-85C2-9ACC57120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09EAF-20F6-44D7-A642-D29625AA0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967C8-43DF-4828-A759-79836082B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54460-2489-4B9C-B3C0-C949ADA6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7101A-D12C-49DB-AE53-F2ACA140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8CD3D-72FB-491B-89D4-747A24BC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A8143-839D-4051-8345-BC83EEA09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BF544-949D-45B0-9B5A-209DA3DD6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A8D6-90BF-463D-B88D-4A8FC64D3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4C156-8859-4E71-B1C5-703AB6794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3AB21-C7A3-4206-B931-8CDA1491A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A9FD9-258D-4FAF-B3EB-7F3FC41B6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AB85E-7A09-4B5B-879A-051AFB564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F0A43-7366-442A-94D2-014939BC3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1252E-4E60-401E-91CD-30C3722A4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686D0-CA76-4466-AFDD-15EA5D1F1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58AE8-579D-477B-A4F5-B309FD21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EF50C-11DA-49D9-B292-D422C8F3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0ABA41-ACA4-480A-8CF5-CE8090BB1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0A89-86FC-4EAD-B995-43D0037B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BB34E-BAE6-4FCB-9A2D-ECE98C737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6911F-BE5D-49AD-A9A9-EC70E5751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B2F0B7-C912-4A75-B1F1-4ED77D355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40C32A-E605-4D63-B5A6-25317592A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3170A-DA77-4B64-8577-58211FD24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DDF37-E122-4E15-ADD8-26A6FF45B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63B4B-51CC-4450-B683-54DE968AA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9EACB-EBED-4ABB-8B97-EC528B147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1F133-24A0-4241-A732-FD5A04719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376CAE-3BD5-4CFF-8ACB-0BD0A608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1D09-9E1F-4FF1-930B-30CCA698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FB47C9-8D6E-4EA1-BFC4-1BEDDB0C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E1A254-21C8-4597-AB45-33158FE5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A85435-E080-4582-8613-FF4F6BD07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BDFE6-DC72-4A3E-851D-965C1DE6D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AB51C6-1F03-415B-B120-98E9EB6A4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64798F-052F-4A72-871B-8CB6744F3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E6597B-3C92-4DF9-B657-D9656F42A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8B33B9-A605-4653-B576-DCBA32AD2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F43861-32A1-4D11-887F-53F2D0FA9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150255-9522-4723-94AA-C65C1B498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B7FD-B6F4-424F-8400-787672B0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7E8BBF-6A9E-42EF-A9B7-3C2B86BE8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13A222-F6F9-4DC3-A729-AECB9129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228757-4A90-42BE-AD60-365E230E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1A4D2B-0CDC-4755-B6C5-E2DD0B6B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06A755-7CA3-4C87-A8B7-E38DB7D30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CF3FEC-956A-47F8-8A43-9F1AE8277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789F2B-FF9A-411B-9E38-D35A92657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62A0D6-1FC6-4E34-9450-D6A83338C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30F501-41D8-4A11-90FB-1296A8FF4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E74E52-D343-458F-B0C4-F6B6C6712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7BCFA-6900-40F3-9101-530D0ABAD5B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" name="Text Box 7"/>
          <p:cNvSpPr/>
          <p:nvPr/>
        </p:nvSpPr>
        <p:spPr>
          <a:xfrm>
            <a:off x="446040" y="6262560"/>
            <a:ext cx="13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1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Rectangle 5"/>
          <p:cNvSpPr/>
          <p:nvPr/>
        </p:nvSpPr>
        <p:spPr>
          <a:xfrm>
            <a:off x="1447920" y="6172200"/>
            <a:ext cx="63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Straight Connector 14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3" name="Straight Connector 14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C6ECE-A19A-439A-9A87-B6CB087F2DC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7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0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2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3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5" name="Text Box 7"/>
          <p:cNvSpPr/>
          <p:nvPr/>
        </p:nvSpPr>
        <p:spPr>
          <a:xfrm>
            <a:off x="446040" y="6262560"/>
            <a:ext cx="13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1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1447920" y="6172200"/>
            <a:ext cx="63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926A3-6B99-4003-97FE-14071C3EF77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Straight Connector 14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9" name="Straight Connector 14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F3836-864F-42F7-B1F9-4BCBEA0CFCC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Straight Connector 14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93" name="Straight Connector 14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8950-2935-42B2-86B9-3C57DD5F4CC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F4099-79D3-41B6-B51A-5AEC6625655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Straight Connector 14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8" name="Straight Connector 14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FE9B8-6277-428D-8800-94B7BD17547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1118F-20ED-4CB4-98B1-4D5E0CD6EA5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20D69-6CD7-4BBA-941F-83CF3578A0F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6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6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5"/>
          <p:cNvSpPr/>
          <p:nvPr/>
        </p:nvSpPr>
        <p:spPr>
          <a:xfrm>
            <a:off x="1066680" y="6245280"/>
            <a:ext cx="6858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38e27"/>
                </a:solidFill>
                <a:latin typeface="Tahoma"/>
              </a:rPr>
              <a:t>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Rectangle 6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F3A0-7602-4B6D-A879-30E0733F36AE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HAPTER 11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DATA AND DATABASE ADMINISTRATION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990720" y="335232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70c0"/>
                </a:solidFill>
                <a:latin typeface="Franklin Gothic Book"/>
                <a:ea typeface="Times New Roman"/>
              </a:rPr>
              <a:t>Modern Database Management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70c0"/>
                </a:solidFill>
                <a:latin typeface="Franklin Gothic Book"/>
                <a:ea typeface="Times New Roman"/>
              </a:rPr>
              <a:t>11</a:t>
            </a:r>
            <a:r>
              <a:rPr b="1" i="1" lang="en-US" sz="2200" spc="-1" strike="noStrike" baseline="30000">
                <a:solidFill>
                  <a:srgbClr val="0070c0"/>
                </a:solidFill>
                <a:latin typeface="Franklin Gothic Book"/>
                <a:ea typeface="Times New Roman"/>
              </a:rPr>
              <a:t>th</a:t>
            </a:r>
            <a:r>
              <a:rPr b="1" i="1" lang="en-US" sz="2200" spc="-1" strike="noStrike">
                <a:solidFill>
                  <a:srgbClr val="0070c0"/>
                </a:solidFill>
                <a:latin typeface="Franklin Gothic Book"/>
                <a:ea typeface="Times New Roman"/>
              </a:rPr>
              <a:t> Edition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9900"/>
                </a:solidFill>
                <a:latin typeface="Franklin Gothic Book"/>
                <a:ea typeface="Times New Roman"/>
              </a:rPr>
              <a:t>Jeffrey A. Hoffer,  V. Ramesh, 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9900"/>
                </a:solidFill>
                <a:latin typeface="Franklin Gothic Book"/>
                <a:ea typeface="Times New Roman"/>
              </a:rPr>
              <a:t>Heikki Topi</a:t>
            </a:r>
            <a:r>
              <a:rPr b="0" lang="en-US" sz="2200" spc="-1" strike="noStrike">
                <a:solidFill>
                  <a:srgbClr val="443329"/>
                </a:solidFill>
                <a:latin typeface="Franklin Gothic Book"/>
              </a:rPr>
              <a:t>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Slide Number Placeholder 1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A5ACB-A4CE-449E-9A4A-0E9CAE272FCF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Text Box 3"/>
          <p:cNvSpPr/>
          <p:nvPr/>
        </p:nvSpPr>
        <p:spPr>
          <a:xfrm>
            <a:off x="617040" y="336600"/>
            <a:ext cx="78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igure 11-2 Possible locations of data security thre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3" name="Picture 4" descr="Noname.gif"/>
          <p:cNvPicPr/>
          <p:nvPr/>
        </p:nvPicPr>
        <p:blipFill>
          <a:blip r:embed="rId2"/>
          <a:stretch/>
        </p:blipFill>
        <p:spPr>
          <a:xfrm>
            <a:off x="914400" y="990720"/>
            <a:ext cx="7162920" cy="5207040"/>
          </a:xfrm>
          <a:prstGeom prst="rect">
            <a:avLst/>
          </a:prstGeom>
          <a:ln w="0">
            <a:noFill/>
          </a:ln>
        </p:spPr>
      </p:pic>
      <p:sp>
        <p:nvSpPr>
          <p:cNvPr id="434" name="Slide Number Placeholder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6CB47-2BAD-4989-A658-56AAE8082441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Text Box 7"/>
          <p:cNvSpPr/>
          <p:nvPr/>
        </p:nvSpPr>
        <p:spPr>
          <a:xfrm>
            <a:off x="446040" y="6262560"/>
            <a:ext cx="13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1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Rectangle 5"/>
          <p:cNvSpPr/>
          <p:nvPr/>
        </p:nvSpPr>
        <p:spPr>
          <a:xfrm>
            <a:off x="1447920" y="6172200"/>
            <a:ext cx="63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THREATS TO DATA SECURITY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380520" y="11430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ccidental losses attributable to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01560" indent="-2314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Human error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01560" indent="-2314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Software failur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01560" indent="-2314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Hardware failur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ft and fraud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Loss of privacy or confidentialit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01560" indent="-2314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Loss of privacy (personal data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01560" indent="-2314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Loss of confidentiality (corporate data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Loss of data integrit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Loss of availability (e.g., through sabotage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CDFE1-85D9-4BC8-8CC2-B6C0D267CF3F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Slide Number Placeholder 1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F55BD-AA31-46C0-9867-6F22A3EADAF1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Text Box 5"/>
          <p:cNvSpPr/>
          <p:nvPr/>
        </p:nvSpPr>
        <p:spPr>
          <a:xfrm>
            <a:off x="1501200" y="336600"/>
            <a:ext cx="608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igure 11-3 Establishing Internet 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Slide Number Placeholder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C67AF-700B-4543-82A8-7B1E144AE1C8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Text Box 7"/>
          <p:cNvSpPr/>
          <p:nvPr/>
        </p:nvSpPr>
        <p:spPr>
          <a:xfrm>
            <a:off x="446040" y="6262560"/>
            <a:ext cx="13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1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Rectangle 5"/>
          <p:cNvSpPr/>
          <p:nvPr/>
        </p:nvSpPr>
        <p:spPr>
          <a:xfrm>
            <a:off x="1447920" y="6172200"/>
            <a:ext cx="63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5" name="Picture 7" descr="Noname.jpg"/>
          <p:cNvPicPr/>
          <p:nvPr/>
        </p:nvPicPr>
        <p:blipFill>
          <a:blip r:embed="rId2"/>
          <a:stretch/>
        </p:blipFill>
        <p:spPr>
          <a:xfrm>
            <a:off x="457200" y="1066680"/>
            <a:ext cx="82072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773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CLIENT – SERVER APPLICATION SECURITY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304920" y="1950840"/>
            <a:ext cx="86868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tatic HTML files are easy to secur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05600" indent="-27144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Standard database access control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05600" indent="-27144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Place Web files in protected directories on server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Dynamic pages are harder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05600" indent="-27144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User authentication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05600" indent="-27144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Session security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05600" indent="-27144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SSL for encryption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05600" indent="-27144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Restrict number of users and open port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05600" indent="-27144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Remove unnecessary programs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05600" indent="-27144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52288-9C3A-499E-93C6-EFDDEFCF3BCE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W3C WEB PRIVACY STANDARD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Platform for Privacy Protection (P3P)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Addresses the following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Who collects data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What data is collected and for what purpos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Who is data shared with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Can users control access to their data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How are disputes resolved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Policies for retaining data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Where are policies kept and how can they be accessed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3BAF0-B076-4DBD-AA47-8CE073C11FE0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DATABASE SOFTWARE SECURITY FEATURES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Views or subschema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ntegrity control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uthorization rule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User-defined procedure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Encryptio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uthentication scheme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Backup, journalizing, and checkpointing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CB7FB-AB0B-4B4E-841A-307F8EC24730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VIEWS AND INTEGRITY CONTROLS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304920" y="1219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View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31440" indent="-2426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Subset of the database that is presented to one or more user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31440" indent="-2426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User can be given access privilege to view without allowing access privilege to underlying table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-2916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Integrity Control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31440" indent="-2426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Protect data from unauthorized us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31440" indent="-2426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Domains–set allowable value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31440" indent="-2426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Assertions–enforce database condition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31440" indent="-2426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Triggers – prevent inappropriate actions, invoke special handling procedures, write to log file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62AD8-C99A-463C-993C-855539B113CB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AUTHORIZATION RULES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380880" y="114300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ontrols incorporated in the data management system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Restrict: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access to data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actions that people can take on data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uthorization matrix for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Subject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Object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Action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Constraint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383EE-E64C-4E21-9E72-9A05EB3F2EC1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1" name="Picture 4" descr="Noname.jpg"/>
          <p:cNvPicPr/>
          <p:nvPr/>
        </p:nvPicPr>
        <p:blipFill>
          <a:blip r:embed="rId2"/>
          <a:stretch/>
        </p:blipFill>
        <p:spPr>
          <a:xfrm>
            <a:off x="3571920" y="4191120"/>
            <a:ext cx="5114880" cy="1590480"/>
          </a:xfrm>
          <a:prstGeom prst="rect">
            <a:avLst/>
          </a:prstGeom>
          <a:ln w="0">
            <a:noFill/>
          </a:ln>
        </p:spPr>
      </p:pic>
      <p:sp>
        <p:nvSpPr>
          <p:cNvPr id="462" name="Text Box 3"/>
          <p:cNvSpPr/>
          <p:nvPr/>
        </p:nvSpPr>
        <p:spPr>
          <a:xfrm>
            <a:off x="5076720" y="5715000"/>
            <a:ext cx="367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igure 11-4 Authorization matri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Slide Number Placeholder 1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8A40F-CD53-45EC-A546-C2076494D6FC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Text Box 2"/>
          <p:cNvSpPr/>
          <p:nvPr/>
        </p:nvSpPr>
        <p:spPr>
          <a:xfrm>
            <a:off x="5638680" y="4267080"/>
            <a:ext cx="327672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ahoma"/>
                <a:ea typeface="Tahoma"/>
              </a:rPr>
              <a:t>Some DBMSs also provide capabilities for </a:t>
            </a:r>
            <a:r>
              <a:rPr b="1" i="1" lang="en-US" sz="2400" spc="-1" strike="noStrike">
                <a:solidFill>
                  <a:srgbClr val="990000"/>
                </a:solidFill>
                <a:latin typeface="Tahoma"/>
                <a:ea typeface="Tahoma"/>
              </a:rPr>
              <a:t>user-defined procedures</a:t>
            </a:r>
            <a:r>
              <a:rPr b="0" lang="en-US" sz="2000" spc="-1" strike="noStrike">
                <a:solidFill>
                  <a:srgbClr val="990000"/>
                </a:solidFill>
                <a:latin typeface="Tahoma"/>
                <a:ea typeface="Tahoma"/>
              </a:rPr>
              <a:t> to customize the authorization proce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Text Box 3"/>
          <p:cNvSpPr/>
          <p:nvPr/>
        </p:nvSpPr>
        <p:spPr>
          <a:xfrm>
            <a:off x="2520360" y="147600"/>
            <a:ext cx="65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igure 11-5a Authorization table for subjects (salesperson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Text Box 4"/>
          <p:cNvSpPr/>
          <p:nvPr/>
        </p:nvSpPr>
        <p:spPr>
          <a:xfrm>
            <a:off x="3228480" y="2052720"/>
            <a:ext cx="57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igure 11-5b Authorization table for objects (order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Text Box 5"/>
          <p:cNvSpPr/>
          <p:nvPr/>
        </p:nvSpPr>
        <p:spPr>
          <a:xfrm>
            <a:off x="309240" y="3819600"/>
            <a:ext cx="324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igure 11-6 Oracle privileg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Text Box 12"/>
          <p:cNvSpPr/>
          <p:nvPr/>
        </p:nvSpPr>
        <p:spPr>
          <a:xfrm>
            <a:off x="592200" y="914400"/>
            <a:ext cx="230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mplementing authorization ru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9" name="Picture 10" descr="Noname.jpg"/>
          <p:cNvPicPr/>
          <p:nvPr/>
        </p:nvPicPr>
        <p:blipFill>
          <a:blip r:embed="rId2"/>
          <a:stretch/>
        </p:blipFill>
        <p:spPr>
          <a:xfrm>
            <a:off x="3505320" y="533520"/>
            <a:ext cx="5248080" cy="155232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1" descr="Noname.jpg"/>
          <p:cNvPicPr/>
          <p:nvPr/>
        </p:nvPicPr>
        <p:blipFill>
          <a:blip r:embed="rId3"/>
          <a:stretch/>
        </p:blipFill>
        <p:spPr>
          <a:xfrm>
            <a:off x="2895480" y="2362320"/>
            <a:ext cx="6019920" cy="1380960"/>
          </a:xfrm>
          <a:prstGeom prst="rect">
            <a:avLst/>
          </a:prstGeom>
          <a:ln w="0">
            <a:noFill/>
          </a:ln>
        </p:spPr>
      </p:pic>
      <p:sp>
        <p:nvSpPr>
          <p:cNvPr id="471" name="Slide Number Placeholder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016D-FCE0-4705-9CC0-933594086432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Text Box 7"/>
          <p:cNvSpPr/>
          <p:nvPr/>
        </p:nvSpPr>
        <p:spPr>
          <a:xfrm>
            <a:off x="446040" y="6262560"/>
            <a:ext cx="13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1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Rectangle 5"/>
          <p:cNvSpPr/>
          <p:nvPr/>
        </p:nvSpPr>
        <p:spPr>
          <a:xfrm>
            <a:off x="1447920" y="6172200"/>
            <a:ext cx="63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4" name="Picture 13" descr="Noname.jpg"/>
          <p:cNvPicPr/>
          <p:nvPr/>
        </p:nvPicPr>
        <p:blipFill>
          <a:blip r:embed="rId4"/>
          <a:stretch/>
        </p:blipFill>
        <p:spPr>
          <a:xfrm>
            <a:off x="380880" y="4191120"/>
            <a:ext cx="49039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Slide Number Placeholder 1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90B0A-22FF-4959-8042-12F864697D33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6"/>
          <p:cNvSpPr/>
          <p:nvPr/>
        </p:nvSpPr>
        <p:spPr>
          <a:xfrm>
            <a:off x="5943600" y="2209680"/>
            <a:ext cx="2895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0000"/>
                </a:solidFill>
                <a:latin typeface="Tahoma"/>
                <a:ea typeface="Tahoma"/>
              </a:rPr>
              <a:t>Encryption</a:t>
            </a:r>
            <a:r>
              <a:rPr b="0" lang="en-US" sz="1800" spc="-1" strike="noStrike">
                <a:solidFill>
                  <a:srgbClr val="990000"/>
                </a:solidFill>
                <a:latin typeface="Tahoma"/>
                <a:ea typeface="Tahoma"/>
              </a:rPr>
              <a:t> – the coding or scrambling of data so that humans cannot read the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ahoma"/>
                <a:ea typeface="Tahoma"/>
              </a:rPr>
              <a:t>Secure Sockets Layer (SSL) is a popular encryption scheme for TCP/IP connection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"/>
          <p:cNvSpPr/>
          <p:nvPr/>
        </p:nvSpPr>
        <p:spPr>
          <a:xfrm>
            <a:off x="1129680" y="122400"/>
            <a:ext cx="45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Figure 11-7 Basic two-key encry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8" name="Picture 5" descr="Noname.jpg"/>
          <p:cNvPicPr/>
          <p:nvPr/>
        </p:nvPicPr>
        <p:blipFill>
          <a:blip r:embed="rId2"/>
          <a:stretch/>
        </p:blipFill>
        <p:spPr>
          <a:xfrm>
            <a:off x="304920" y="533520"/>
            <a:ext cx="5581440" cy="5715000"/>
          </a:xfrm>
          <a:prstGeom prst="rect">
            <a:avLst/>
          </a:prstGeom>
          <a:ln w="0">
            <a:noFill/>
          </a:ln>
        </p:spPr>
      </p:pic>
      <p:sp>
        <p:nvSpPr>
          <p:cNvPr id="479" name="Slide Number Placeholder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A2C9E-6501-44A3-A42C-4F0B7321E36E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Text Box 7"/>
          <p:cNvSpPr/>
          <p:nvPr/>
        </p:nvSpPr>
        <p:spPr>
          <a:xfrm>
            <a:off x="446040" y="6262560"/>
            <a:ext cx="13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1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Rectangle 5"/>
          <p:cNvSpPr/>
          <p:nvPr/>
        </p:nvSpPr>
        <p:spPr>
          <a:xfrm>
            <a:off x="1447920" y="6172200"/>
            <a:ext cx="63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OBJECTIVES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720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e3b30"/>
                </a:solidFill>
                <a:latin typeface="Franklin Gothic Book"/>
              </a:rPr>
              <a:t>Define terms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e3b30"/>
                </a:solidFill>
                <a:latin typeface="Franklin Gothic Book"/>
              </a:rPr>
              <a:t>List functions and roles of data/database administration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e3b30"/>
                </a:solidFill>
                <a:latin typeface="Franklin Gothic Book"/>
              </a:rPr>
              <a:t>Describe role of data dictionaries and information repositories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e3b30"/>
                </a:solidFill>
                <a:latin typeface="Franklin Gothic Book"/>
              </a:rPr>
              <a:t>Compare optimistic and pessimistic concurrency control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e3b30"/>
                </a:solidFill>
                <a:latin typeface="Franklin Gothic Book"/>
              </a:rPr>
              <a:t>Describe problems and techniques for data security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e3b30"/>
                </a:solidFill>
                <a:latin typeface="Franklin Gothic Book"/>
              </a:rPr>
              <a:t>Understand role of databases in Sarbanes-Oxley compliance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e3b30"/>
                </a:solidFill>
                <a:latin typeface="Franklin Gothic Book"/>
              </a:rPr>
              <a:t>Describe problems and facilities for data recovery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e3b30"/>
                </a:solidFill>
                <a:latin typeface="Franklin Gothic Book"/>
              </a:rPr>
              <a:t>Describe database tuning issues and list areas where changes can be done to tune the database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e3b30"/>
                </a:solidFill>
                <a:latin typeface="Franklin Gothic Book"/>
              </a:rPr>
              <a:t>Describe importance and measures of data availability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30084-6BFF-47A5-8B5D-DE67DFF6CD3A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AUTHENTICATION SCHEMES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Goal – obtain a </a:t>
            </a:r>
            <a:r>
              <a:rPr b="0" i="1" lang="en-US" sz="3600" spc="-1" strike="noStrike">
                <a:solidFill>
                  <a:srgbClr val="4e3b30"/>
                </a:solidFill>
                <a:latin typeface="Franklin Gothic Book"/>
              </a:rPr>
              <a:t>positive</a:t>
            </a: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 identification of the user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294840" indent="-29484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Passwords: First line of defense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39000" indent="-24552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hould be at least 8 characters long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39000" indent="-24552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hould combine alphabetic and numeric dat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39000" indent="-24552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hould not be complete words or personal informatio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39000" indent="-24552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hould be changed frequentl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4840" indent="-294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39000" indent="-24552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A7995-067D-4150-AEA8-7C9CD1DE71E9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AUTHENTICATION SCHEMES (CONT.)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228240" y="1143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Strong Authentication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01560" indent="-2314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Passwords are flawed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925560" indent="-18504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Users share them with each other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925560" indent="-18504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They get written down, could be copied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925560" indent="-18504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Automatic logon scripts remove need to explicitly type them in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925560" indent="-18504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Unencrypted passwords travel the Internet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7560" indent="-27756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Possible solutions: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01560" indent="-2314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Two factor–e.g., smart card plus PIN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01560" indent="-2314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Three factor–e.g., smart card, biometric, PIN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277560" indent="-27756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01560" indent="-23148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27A7D-FBB7-49AC-A5E1-8C284C61CFFE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5438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SARBANES-OXLEY (SOX)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5720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Requires companies to audit the access to sensitive data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288000" indent="-28800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Designed to ensure integrity of public companies’ financial statements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288000" indent="-28800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SOX audit involves: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23880" indent="-23976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T change managemen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23880" indent="-23976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Logical access to dat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23880" indent="-23976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T operation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88000" indent="-2880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3C976-78B3-4083-A5A8-54CEB24BCD5C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IT CHANGE MANAGEMENT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The process by which changes to operational systems and databases are authorized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For database, changes to: schema, database configuration, updates to DBMS software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Segregation of duties: development, test, production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79853-63B0-4B03-A01A-D4410EC9F979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LOGICAL ACCESS TO DATA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04920" y="1341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Book"/>
              </a:rPr>
              <a:t>Personnel controls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05600" indent="-27144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Hiring practices, employee monitoring, security training, separation of duties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Book"/>
              </a:rPr>
              <a:t>Physical access controls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705600" indent="-3258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wipe cards, equipment locking, check-out procedures, screen placement, laptop protectio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FC59C-DB52-4D85-A027-399B04E054DD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IT OPERATIONS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Policies and procedures for day-to-day management of infrastructure, applications, and databases in an organization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For databases: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Backup &amp; recovery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Availability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B79E1-53A5-43D4-B918-23248AB5DDEE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DATABASE RECOVERY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901"/>
              </a:spcBef>
              <a:buClr>
                <a:srgbClr val="f0a22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Mechanism for restoring a database quickly and accurately after loss or damage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294840" indent="-294840">
              <a:spcBef>
                <a:spcPts val="901"/>
              </a:spcBef>
              <a:buClr>
                <a:srgbClr val="f0a22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Recovery facilities: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39000" indent="-24552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Backup Facilitie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39000" indent="-24552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Journalizing Facilitie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39000" indent="-24552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heckpoint Facilit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39000" indent="-24552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Recovery Manager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40E33-725F-4150-B4F3-CB19A53F8B35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BACK-UP FACILITIES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685800" y="12193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8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e3b30"/>
                </a:solidFill>
                <a:latin typeface="Franklin Gothic Book"/>
              </a:rPr>
              <a:t>DBMS copy utility that produces backup copy of the entire database or subset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spcBef>
                <a:spcPts val="8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e3b30"/>
                </a:solidFill>
                <a:latin typeface="Franklin Gothic Book"/>
              </a:rPr>
              <a:t>Periodic backup (e.g. nightly, weekly)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spcBef>
                <a:spcPts val="8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e3b30"/>
                </a:solidFill>
                <a:latin typeface="Franklin Gothic Book"/>
              </a:rPr>
              <a:t>Cold backup–database is shut down during backup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spcBef>
                <a:spcPts val="8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e3b30"/>
                </a:solidFill>
                <a:latin typeface="Franklin Gothic Book"/>
              </a:rPr>
              <a:t>Hot backup–selected portion is shut down and backed up at a given time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spcBef>
                <a:spcPts val="8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e3b30"/>
                </a:solidFill>
                <a:latin typeface="Franklin Gothic Book"/>
              </a:rPr>
              <a:t>Backups stored in secure, off-site location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9D2E3-5FC1-4FE3-B494-5CE94D5DDB9A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JOURNALIZING FACILITIES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udit trail of transactions and database update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ransaction log–record of essential data for each transaction processed against the databas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Database change log–images of updated dat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76080" indent="-25992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Before-image–copy before modificatio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76080" indent="-25992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fter-image–copy after modificatio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C8760-B5C1-45D5-AD46-21021F294C15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Text Box 4"/>
          <p:cNvSpPr/>
          <p:nvPr/>
        </p:nvSpPr>
        <p:spPr>
          <a:xfrm>
            <a:off x="2480760" y="5705640"/>
            <a:ext cx="40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  <a:ea typeface="Tahoma"/>
              </a:rPr>
              <a:t>Produces an </a:t>
            </a:r>
            <a:r>
              <a:rPr b="1" i="1" lang="en-US" sz="2800" spc="-1" strike="noStrike">
                <a:solidFill>
                  <a:srgbClr val="990000"/>
                </a:solidFill>
                <a:latin typeface="Tahoma"/>
                <a:ea typeface="Tahoma"/>
              </a:rPr>
              <a:t>audit</a:t>
            </a:r>
            <a:r>
              <a:rPr b="1" i="1" lang="en-US" sz="28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1" i="1" lang="en-US" sz="2800" spc="-1" strike="noStrike">
                <a:solidFill>
                  <a:srgbClr val="990000"/>
                </a:solidFill>
                <a:latin typeface="Tahoma"/>
                <a:ea typeface="Tahoma"/>
              </a:rPr>
              <a:t>tr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5" descr="Noname.jpg"/>
          <p:cNvPicPr/>
          <p:nvPr/>
        </p:nvPicPr>
        <p:blipFill>
          <a:blip r:embed="rId2"/>
          <a:stretch/>
        </p:blipFill>
        <p:spPr>
          <a:xfrm>
            <a:off x="762120" y="685800"/>
            <a:ext cx="7672320" cy="5514840"/>
          </a:xfrm>
          <a:prstGeom prst="rect">
            <a:avLst/>
          </a:prstGeom>
          <a:ln w="0">
            <a:noFill/>
          </a:ln>
        </p:spPr>
      </p:pic>
      <p:sp>
        <p:nvSpPr>
          <p:cNvPr id="511" name="Slide Number Placeholder 1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919FA-8CC3-4AE2-9DB5-4DACF3F6781C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Text Box 3"/>
          <p:cNvSpPr/>
          <p:nvPr/>
        </p:nvSpPr>
        <p:spPr>
          <a:xfrm>
            <a:off x="1981080" y="15228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igure 11-8 Database audit tra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Text Box 4"/>
          <p:cNvSpPr/>
          <p:nvPr/>
        </p:nvSpPr>
        <p:spPr>
          <a:xfrm>
            <a:off x="3581280" y="4349880"/>
            <a:ext cx="3292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  <a:ea typeface="Tahoma"/>
              </a:rPr>
              <a:t>From the backup and logs, databases can be restored in case of damage or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Slide Number Placeholder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47769-0BAB-4F7B-AA57-8A4410E418BA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Text Box 7"/>
          <p:cNvSpPr/>
          <p:nvPr/>
        </p:nvSpPr>
        <p:spPr>
          <a:xfrm>
            <a:off x="446040" y="6262560"/>
            <a:ext cx="13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1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5"/>
          <p:cNvSpPr/>
          <p:nvPr/>
        </p:nvSpPr>
        <p:spPr>
          <a:xfrm>
            <a:off x="1447920" y="6172200"/>
            <a:ext cx="63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04920" y="1844280"/>
            <a:ext cx="86868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e3b30"/>
                </a:solidFill>
                <a:latin typeface="Franklin Gothic Book"/>
              </a:rPr>
              <a:t>Multiple data definitions, causing data integration problems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e3b30"/>
                </a:solidFill>
                <a:latin typeface="Franklin Gothic Book"/>
              </a:rPr>
              <a:t>Missing data elements, causing reduction in data value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e3b30"/>
                </a:solidFill>
                <a:latin typeface="Franklin Gothic Book"/>
              </a:rPr>
              <a:t>Inappropriate data sources and timing, causing lowered reliability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e3b30"/>
                </a:solidFill>
                <a:latin typeface="Franklin Gothic Book"/>
              </a:rPr>
              <a:t>Inadequate familiarity, causing ineffective use of data for planning and strategy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e3b30"/>
                </a:solidFill>
                <a:latin typeface="Franklin Gothic Book"/>
              </a:rPr>
              <a:t>Poor response time and excessive downtime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e3b30"/>
                </a:solidFill>
                <a:latin typeface="Franklin Gothic Book"/>
              </a:rPr>
              <a:t>Damaged, sabotaged, and stolen data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e3b30"/>
                </a:solidFill>
                <a:latin typeface="Franklin Gothic Book"/>
              </a:rPr>
              <a:t>Unauthorized access, leading to embarrassment to organization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1" name="Slide Number Placeholder 2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DDA92-0E47-41BF-BA2D-2724EDCB1B86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INEFFECTIVE DATA ADMINISTRATION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POOR DATA QUALITY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CHECKPOINT FACILITIES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380880" y="17521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DBMS periodically refuses to accept new transactions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Wingdings"/>
                <a:ea typeface="Wingdings"/>
              </a:rPr>
              <a:t></a:t>
            </a: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system is in a </a:t>
            </a:r>
            <a:r>
              <a:rPr b="0" i="1" lang="en-US" sz="3600" spc="-1" strike="noStrike">
                <a:solidFill>
                  <a:srgbClr val="4e3b30"/>
                </a:solidFill>
                <a:latin typeface="Franklin Gothic Book"/>
              </a:rPr>
              <a:t>quiet</a:t>
            </a: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 state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Database and transaction logs are synchronized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0BB54-5E55-45A3-9C39-298E9A4C0608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Text Box 4"/>
          <p:cNvSpPr/>
          <p:nvPr/>
        </p:nvSpPr>
        <p:spPr>
          <a:xfrm>
            <a:off x="457200" y="512136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ahoma"/>
                <a:ea typeface="Tahoma"/>
              </a:rPr>
              <a:t>This allows recovery manager to resume processing from short period, instead of repeating entire d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6197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RECOVERY AND RESTART PROCEDURES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Disk Mirroring–switch between identical copies of database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Restore/Rerun–reprocess transactions against the backup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ransaction Integrity–commit or abort all transaction change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Backward Recovery (Rollback)–apply before image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rward Recovery (Roll Forward)–apply after images (preferable to restore/rerun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7DC18-6267-4AF0-B855-28E668CF2BAF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TRANSACTION </a:t>
            </a:r>
            <a:r>
              <a:rPr b="0" lang="en-US" sz="4800" spc="-1" strike="noStrike">
                <a:solidFill>
                  <a:srgbClr val="000000"/>
                </a:solidFill>
                <a:latin typeface="Franklin Gothic Medium"/>
              </a:rPr>
              <a:t>ACID</a:t>
            </a: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 PROPERTIES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457200" y="1371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Atomic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76080" indent="-25992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ransaction cannot be subdivided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lnSpc>
                <a:spcPct val="8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Consistent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76080" indent="-25992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onstraints don’t change from before transaction to after transactio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lnSpc>
                <a:spcPct val="8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Isolated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76080" indent="-25992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Database changes not revealed to users until after transaction has completed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lnSpc>
                <a:spcPct val="8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Durable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76080" indent="-25992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Database changes are permanen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FF86-3C05-433A-BF26-86A32363159D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Slide Number Placeholder 1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4D979-6AA2-4448-BC4C-357AA408FBDA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Text Box 3"/>
          <p:cNvSpPr/>
          <p:nvPr/>
        </p:nvSpPr>
        <p:spPr>
          <a:xfrm>
            <a:off x="1590120" y="262080"/>
            <a:ext cx="558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igure 11-9 Basic recovery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a) Roll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9" name="Picture 4" descr="Noname.jpg"/>
          <p:cNvPicPr/>
          <p:nvPr/>
        </p:nvPicPr>
        <p:blipFill>
          <a:blip r:embed="rId2"/>
          <a:stretch/>
        </p:blipFill>
        <p:spPr>
          <a:xfrm>
            <a:off x="247680" y="1405080"/>
            <a:ext cx="8591400" cy="4081320"/>
          </a:xfrm>
          <a:prstGeom prst="rect">
            <a:avLst/>
          </a:prstGeom>
          <a:ln w="0">
            <a:noFill/>
          </a:ln>
        </p:spPr>
      </p:pic>
      <p:sp>
        <p:nvSpPr>
          <p:cNvPr id="530" name="Slide Number Placeholder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34FAF-206B-4A4B-AE3E-E3B12026A730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Text Box 7"/>
          <p:cNvSpPr/>
          <p:nvPr/>
        </p:nvSpPr>
        <p:spPr>
          <a:xfrm>
            <a:off x="446040" y="6262560"/>
            <a:ext cx="13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1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1447920" y="6172200"/>
            <a:ext cx="63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Slide Number Placeholder 1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9E770-10A5-452B-AE84-C242D8524961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Text Box 3"/>
          <p:cNvSpPr/>
          <p:nvPr/>
        </p:nvSpPr>
        <p:spPr>
          <a:xfrm>
            <a:off x="1378800" y="69840"/>
            <a:ext cx="656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igure 11-9 Basic recovery techniques (cont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b) Roll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35" name="Picture 4" descr="Noname.jpg"/>
          <p:cNvPicPr/>
          <p:nvPr/>
        </p:nvPicPr>
        <p:blipFill>
          <a:blip r:embed="rId2"/>
          <a:stretch/>
        </p:blipFill>
        <p:spPr>
          <a:xfrm>
            <a:off x="266760" y="1390680"/>
            <a:ext cx="8648640" cy="4248000"/>
          </a:xfrm>
          <a:prstGeom prst="rect">
            <a:avLst/>
          </a:prstGeom>
          <a:ln w="0">
            <a:noFill/>
          </a:ln>
        </p:spPr>
      </p:pic>
      <p:sp>
        <p:nvSpPr>
          <p:cNvPr id="536" name="Slide Number Placeholder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C9621-6D20-4D65-88F4-D17535BA7EE8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Text Box 7"/>
          <p:cNvSpPr/>
          <p:nvPr/>
        </p:nvSpPr>
        <p:spPr>
          <a:xfrm>
            <a:off x="446040" y="6262560"/>
            <a:ext cx="13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1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1447920" y="6172200"/>
            <a:ext cx="63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39ED6-9D0E-47B7-ACF5-9BD31A028D15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0" name="Picture 6" descr="Noname.gif"/>
          <p:cNvPicPr/>
          <p:nvPr/>
        </p:nvPicPr>
        <p:blipFill>
          <a:blip r:embed="rId2"/>
          <a:stretch/>
        </p:blipFill>
        <p:spPr>
          <a:xfrm>
            <a:off x="0" y="717480"/>
            <a:ext cx="914400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CONTROL CONCURRENT ACCESS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e3b30"/>
                </a:solidFill>
                <a:latin typeface="Franklin Gothic Book"/>
              </a:rPr>
              <a:t>Problem</a:t>
            </a: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–in a multi-user environment, simultaneous access to data can result in interference and data loss (lost update problem)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281160" indent="-28116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e3b30"/>
                </a:solidFill>
                <a:latin typeface="Franklin Gothic Book"/>
              </a:rPr>
              <a:t>Solution</a:t>
            </a: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–</a:t>
            </a:r>
            <a:r>
              <a:rPr b="1" lang="en-US" sz="3600" spc="-1" strike="noStrike">
                <a:solidFill>
                  <a:srgbClr val="990000"/>
                </a:solidFill>
                <a:latin typeface="Franklin Gothic Book"/>
              </a:rPr>
              <a:t>Concurrency Control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09120" indent="-23436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 process of managing simultaneous operations against a database so that data integrity is maintained and the operations do not interfere with each other in a multi-user environmen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94F16-ADE2-4FA2-892D-2170C47B9FE4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Slide Number Placeholder 2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31043-19D3-4BA2-81E4-C6D5FD1B1E51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Text Box 6"/>
          <p:cNvSpPr/>
          <p:nvPr/>
        </p:nvSpPr>
        <p:spPr>
          <a:xfrm>
            <a:off x="377280" y="609480"/>
            <a:ext cx="86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igure 11-10  Lost update (no concurrency control in effec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Text Box 7"/>
          <p:cNvSpPr/>
          <p:nvPr/>
        </p:nvSpPr>
        <p:spPr>
          <a:xfrm>
            <a:off x="473400" y="5402160"/>
            <a:ext cx="849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  <a:ea typeface="Tahoma"/>
              </a:rPr>
              <a:t>Simultaneous access causes updates to cancel each o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Text Box 8"/>
          <p:cNvSpPr/>
          <p:nvPr/>
        </p:nvSpPr>
        <p:spPr>
          <a:xfrm>
            <a:off x="703440" y="5783400"/>
            <a:ext cx="769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  <a:ea typeface="Tahoma"/>
              </a:rPr>
              <a:t>A similar problem is the </a:t>
            </a:r>
            <a:r>
              <a:rPr b="1" lang="en-US" sz="2400" spc="-1" strike="noStrike">
                <a:solidFill>
                  <a:srgbClr val="990000"/>
                </a:solidFill>
                <a:latin typeface="Tahoma"/>
                <a:ea typeface="Tahoma"/>
              </a:rPr>
              <a:t>inconsistent read</a:t>
            </a:r>
            <a:r>
              <a:rPr b="0" lang="en-US" sz="2400" spc="-1" strike="noStrike">
                <a:solidFill>
                  <a:srgbClr val="990000"/>
                </a:solidFill>
                <a:latin typeface="Tahoma"/>
                <a:ea typeface="Tahoma"/>
              </a:rPr>
              <a:t> probl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8" name="Picture 6" descr="Noname.jpg"/>
          <p:cNvPicPr/>
          <p:nvPr/>
        </p:nvPicPr>
        <p:blipFill>
          <a:blip r:embed="rId2"/>
          <a:stretch/>
        </p:blipFill>
        <p:spPr>
          <a:xfrm>
            <a:off x="2209680" y="1143000"/>
            <a:ext cx="523404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ONCURRENCY CONTROL TECHNIQUES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rializabilit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Finish one transaction before starting another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Locking Mechanisms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The most  common way of achieving serialization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Data that is retrieved for the purpose of updating is locked for the updater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No other user can perform update until unlocked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B74EE-4349-498A-8B75-1C1697678FE7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Slide Number Placeholder 1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7A306-DFA8-46F1-80C5-B55C8CFCDB31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Text Box 2"/>
          <p:cNvSpPr/>
          <p:nvPr/>
        </p:nvSpPr>
        <p:spPr>
          <a:xfrm>
            <a:off x="585360" y="144360"/>
            <a:ext cx="82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igure 11-11: Updates with locking (concurrency contro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618920" y="5791320"/>
            <a:ext cx="599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ahoma"/>
                <a:ea typeface="Tahoma"/>
              </a:rPr>
              <a:t>This prevents the lost update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55" name="Picture 5" descr="Noname.jpg"/>
          <p:cNvPicPr/>
          <p:nvPr/>
        </p:nvPicPr>
        <p:blipFill>
          <a:blip r:embed="rId2"/>
          <a:stretch/>
        </p:blipFill>
        <p:spPr>
          <a:xfrm>
            <a:off x="2057400" y="685800"/>
            <a:ext cx="5181480" cy="5105520"/>
          </a:xfrm>
          <a:prstGeom prst="rect">
            <a:avLst/>
          </a:prstGeom>
          <a:ln w="0">
            <a:noFill/>
          </a:ln>
        </p:spPr>
      </p:pic>
      <p:sp>
        <p:nvSpPr>
          <p:cNvPr id="556" name="Slide Number Placeholder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F1338-B207-4162-A7D2-F43F96B13870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Text Box 7"/>
          <p:cNvSpPr/>
          <p:nvPr/>
        </p:nvSpPr>
        <p:spPr>
          <a:xfrm>
            <a:off x="446040" y="6262560"/>
            <a:ext cx="13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1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Rectangle 5"/>
          <p:cNvSpPr/>
          <p:nvPr/>
        </p:nvSpPr>
        <p:spPr>
          <a:xfrm>
            <a:off x="1447920" y="6172200"/>
            <a:ext cx="63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TRADITIONAL ADMINISTRATION DEFINITIONS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04920" y="16765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Franklin Gothic Book"/>
              </a:rPr>
              <a:t>Data Administration</a:t>
            </a:r>
            <a:r>
              <a:rPr b="0" i="1" lang="en-US" sz="3200" spc="-1" strike="noStrike">
                <a:solidFill>
                  <a:srgbClr val="4e3b30"/>
                </a:solidFill>
                <a:latin typeface="Franklin Gothic Book"/>
              </a:rPr>
              <a:t>: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A high-level function that is responsible for the overall management of data resources in an organization, including maintaining corporate-wide definitions and standard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Franklin Gothic Book"/>
              </a:rPr>
              <a:t>Database Administration</a:t>
            </a:r>
            <a:r>
              <a:rPr b="0" i="1" lang="en-US" sz="3200" spc="-1" strike="noStrike">
                <a:solidFill>
                  <a:srgbClr val="4e3b30"/>
                </a:solidFill>
                <a:latin typeface="Franklin Gothic Book"/>
              </a:rPr>
              <a:t>: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A technical function that is responsible for physical database design and for dealing with technical issues such as security enforcement, database performance, and backup and recover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CDCBD-C321-41D6-96B4-F6E10F9E4B72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LOCKING MECHANISMS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685800" y="11426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Locking level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Database–used during database update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Table–used for bulk update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Block or page–very commonly used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Record–only requested row; fairly commonly used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Field–requires significant overhead; impractical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Types of locks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Shared lock–Read but no update permitted.  Used when just reading to prevent another user from placing an exclusive lock on the record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Exclusive lock–No access permitted.  Used when preparing to updat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EE69E-F61B-4D9D-AC6D-2BC327C31489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DEADLOCK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838080" y="1066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An impasse that results when two or more transactions have locked common resources, and each waits for the other to unlock their resource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0DEB9-27E0-4FE3-BD12-37BDE3115FF9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-98640" y="2506680"/>
            <a:ext cx="375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igure 11-1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The problem of dead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Text Box 5"/>
          <p:cNvSpPr/>
          <p:nvPr/>
        </p:nvSpPr>
        <p:spPr>
          <a:xfrm>
            <a:off x="76320" y="3794040"/>
            <a:ext cx="3429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00"/>
                </a:solidFill>
                <a:latin typeface="Tahoma"/>
                <a:ea typeface="Tahoma"/>
              </a:rPr>
              <a:t>John and Marsha will wait forever for each other to release their locked resource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7" name="Picture 7" descr="Noname.jpg"/>
          <p:cNvPicPr/>
          <p:nvPr/>
        </p:nvPicPr>
        <p:blipFill>
          <a:blip r:embed="rId2"/>
          <a:stretch/>
        </p:blipFill>
        <p:spPr>
          <a:xfrm>
            <a:off x="3581280" y="2286000"/>
            <a:ext cx="52009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MANAGING DEADLOCK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3049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Deadlock prevention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572040" indent="-21996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e3b30"/>
                </a:solidFill>
                <a:latin typeface="Franklin Gothic Book"/>
              </a:rPr>
              <a:t>Lock all records required at the beginning of a transaction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572040" indent="-21996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e3b30"/>
                </a:solidFill>
                <a:latin typeface="Franklin Gothic Book"/>
              </a:rPr>
              <a:t>Two-phase locking protocol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879840" indent="-175680">
              <a:lnSpc>
                <a:spcPct val="90000"/>
              </a:lnSpc>
              <a:spcBef>
                <a:spcPts val="575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e3b30"/>
                </a:solidFill>
                <a:latin typeface="Franklin Gothic Book"/>
              </a:rPr>
              <a:t>Growing phase</a:t>
            </a:r>
            <a:endParaRPr b="0" lang="en-US" sz="23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879840" indent="-175680">
              <a:lnSpc>
                <a:spcPct val="90000"/>
              </a:lnSpc>
              <a:spcBef>
                <a:spcPts val="575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e3b30"/>
                </a:solidFill>
                <a:latin typeface="Franklin Gothic Book"/>
              </a:rPr>
              <a:t>Shrinking phase</a:t>
            </a:r>
            <a:endParaRPr b="0" lang="en-US" sz="23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572040" indent="-21996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e3b30"/>
                </a:solidFill>
                <a:latin typeface="Franklin Gothic Book"/>
              </a:rPr>
              <a:t>May be difficult to determine all needed resources in advance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Deadlock Resolution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572040" indent="-21996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e3b30"/>
                </a:solidFill>
                <a:latin typeface="Franklin Gothic Book"/>
              </a:rPr>
              <a:t>Allow deadlocks to occur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572040" indent="-21996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e3b30"/>
                </a:solidFill>
                <a:latin typeface="Franklin Gothic Book"/>
              </a:rPr>
              <a:t>Mechanisms for detecting and breaking them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879840" indent="-1756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Resource usage matrix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3148F-6949-4D18-BD51-5EF20030295C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VERSIONING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609120" y="13716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Optimistic approach to concurrency contro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nstead of locking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ssumption is that simultaneous updates will be infrequen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Each transaction can attempt an update as it wishe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 system will reject an update when it senses a conflic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Use of rollback and commit for thi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CD278-6D09-4190-8C0A-F14D2C864092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5" descr="Noname.jpg"/>
          <p:cNvPicPr/>
          <p:nvPr/>
        </p:nvPicPr>
        <p:blipFill>
          <a:blip r:embed="rId2"/>
          <a:stretch/>
        </p:blipFill>
        <p:spPr>
          <a:xfrm>
            <a:off x="1300320" y="792000"/>
            <a:ext cx="6548400" cy="5177160"/>
          </a:xfrm>
          <a:prstGeom prst="rect">
            <a:avLst/>
          </a:prstGeom>
          <a:ln w="0">
            <a:noFill/>
          </a:ln>
        </p:spPr>
      </p:pic>
      <p:sp>
        <p:nvSpPr>
          <p:cNvPr id="575" name="Slide Number Placeholder 1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CBC54-B572-4FF6-8D02-8752397AD4F3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Text Box 3"/>
          <p:cNvSpPr/>
          <p:nvPr/>
        </p:nvSpPr>
        <p:spPr>
          <a:xfrm>
            <a:off x="2113560" y="297000"/>
            <a:ext cx="51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igure 11-14 The use of versio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Text Box 4"/>
          <p:cNvSpPr/>
          <p:nvPr/>
        </p:nvSpPr>
        <p:spPr>
          <a:xfrm>
            <a:off x="2175840" y="5554800"/>
            <a:ext cx="48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  <a:ea typeface="Tahoma"/>
              </a:rPr>
              <a:t>Better performance than 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Slide Number Placeholder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114CA-F5E5-4365-A1AC-98108FC0B49B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Text Box 7"/>
          <p:cNvSpPr/>
          <p:nvPr/>
        </p:nvSpPr>
        <p:spPr>
          <a:xfrm>
            <a:off x="446040" y="6262560"/>
            <a:ext cx="13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1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1447920" y="6172200"/>
            <a:ext cx="63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DATA DICTIONARIES AND REPOSITORIES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151920" y="16765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Data dictionar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Documents data elements of a databas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ystem catalog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System-created database that describes all database object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nformation Repositor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Stores metadata describing data and data processing resource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nformation Repository Dictionary System (IRDS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Software tool managing/controlling access to information repository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C36B2-343F-49A4-BC0E-95591C575959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11" descr="Noname.jpg"/>
          <p:cNvPicPr/>
          <p:nvPr/>
        </p:nvPicPr>
        <p:blipFill>
          <a:blip r:embed="rId2"/>
          <a:stretch/>
        </p:blipFill>
        <p:spPr>
          <a:xfrm>
            <a:off x="1371600" y="966960"/>
            <a:ext cx="6934320" cy="5333760"/>
          </a:xfrm>
          <a:prstGeom prst="rect">
            <a:avLst/>
          </a:prstGeom>
          <a:ln w="0">
            <a:noFill/>
          </a:ln>
        </p:spPr>
      </p:pic>
      <p:sp>
        <p:nvSpPr>
          <p:cNvPr id="585" name="Slide Number Placeholder 1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FE090-6101-44A0-B494-B990D23B4647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Text Box 3"/>
          <p:cNvSpPr/>
          <p:nvPr/>
        </p:nvSpPr>
        <p:spPr>
          <a:xfrm>
            <a:off x="838080" y="1602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igure 11-15 Three components of the repository system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Text Box 4"/>
          <p:cNvSpPr/>
          <p:nvPr/>
        </p:nvSpPr>
        <p:spPr>
          <a:xfrm>
            <a:off x="5562720" y="1065240"/>
            <a:ext cx="230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ahoma"/>
                <a:ea typeface="Tahoma"/>
              </a:rPr>
              <a:t>A schema of the repository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Text Box 5"/>
          <p:cNvSpPr/>
          <p:nvPr/>
        </p:nvSpPr>
        <p:spPr>
          <a:xfrm>
            <a:off x="7162920" y="2590920"/>
            <a:ext cx="129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ahoma"/>
                <a:ea typeface="Tahoma"/>
              </a:rPr>
              <a:t>Software that manages the repository ob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Text Box 6"/>
          <p:cNvSpPr/>
          <p:nvPr/>
        </p:nvSpPr>
        <p:spPr>
          <a:xfrm>
            <a:off x="5486400" y="53020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ahoma"/>
                <a:ea typeface="Tahoma"/>
              </a:rPr>
              <a:t>Where repository objects are stor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Text Box 7"/>
          <p:cNvSpPr/>
          <p:nvPr/>
        </p:nvSpPr>
        <p:spPr>
          <a:xfrm>
            <a:off x="1447920" y="5989680"/>
            <a:ext cx="289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Source</a:t>
            </a:r>
            <a:r>
              <a:rPr b="0" lang="en-US" sz="1000" spc="-1" strike="noStrike">
                <a:solidFill>
                  <a:srgbClr val="990000"/>
                </a:solidFill>
                <a:latin typeface="Tahoma"/>
                <a:ea typeface="Tahoma"/>
              </a:rPr>
              <a:t>: based on Bernstein, 1996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Slide Number Placeholder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68E27-B194-4CE5-BFC4-A0034FEBA891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Text Box 7"/>
          <p:cNvSpPr/>
          <p:nvPr/>
        </p:nvSpPr>
        <p:spPr>
          <a:xfrm>
            <a:off x="446040" y="6262560"/>
            <a:ext cx="13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1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Rectangle 5"/>
          <p:cNvSpPr/>
          <p:nvPr/>
        </p:nvSpPr>
        <p:spPr>
          <a:xfrm>
            <a:off x="1447920" y="6172200"/>
            <a:ext cx="63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DATABASE PERFORMANCE TUNING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68580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DBMS Installation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Setting installation parameter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Memory and Storage Space Usage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Set cache level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Choose background processe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Data archiving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Input/output (I/O) Contention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Use striping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Distribution of heavily accessed file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CPU Usage – 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Monitor CPU load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Application tuning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Modification of SQL code in application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Use of heartbeat querie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B30E9-341A-4B9B-B44B-05463D2F6B24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COST OF DOWNTIME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8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7380C-7F10-4EEB-8B3D-50E3BEF418CD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Rectangle 7"/>
          <p:cNvSpPr/>
          <p:nvPr/>
        </p:nvSpPr>
        <p:spPr>
          <a:xfrm>
            <a:off x="2362320" y="556272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Downtime is exp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0" name="Picture 6" descr="Noname.jpg"/>
          <p:cNvPicPr/>
          <p:nvPr/>
        </p:nvPicPr>
        <p:blipFill>
          <a:blip r:embed="rId2"/>
          <a:stretch/>
        </p:blipFill>
        <p:spPr>
          <a:xfrm>
            <a:off x="304920" y="1295280"/>
            <a:ext cx="5016240" cy="289584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6" descr="Noname.gif"/>
          <p:cNvPicPr/>
          <p:nvPr/>
        </p:nvPicPr>
        <p:blipFill>
          <a:blip r:embed="rId3"/>
          <a:stretch/>
        </p:blipFill>
        <p:spPr>
          <a:xfrm>
            <a:off x="4038480" y="2320920"/>
            <a:ext cx="4648320" cy="30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DATA AVAILABILITY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304560" y="12193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How to ensure availabilit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Hardware failures–provide redundancy for fault toleranc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Loss of data–database mirroring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Human error–standard operating procedures, training, documentation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Maintenance downtime–automated and non-disruptive maintenance utilitie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Network problems–careful traffic monitoring, firewalls, and router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4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F42F0-1F1A-467E-B9EB-D256C482FC77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TRADITIONAL DATA ADMINISTRATION FUNCTIONS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304920" y="1874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Data policies, procedures, standards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Planning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Data conflict (ownership) resolution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Managing the information repository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Internal marketing of DA concepts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4C068-8099-49D0-B7ED-CFB5EC2C457F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4E536-FA3D-4B78-A314-6B128F875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6" name="Picture 4" descr="cid:3287383400_2177562"/>
          <p:cNvPicPr/>
          <p:nvPr/>
        </p:nvPicPr>
        <p:blipFill>
          <a:blip r:embed="rId2"/>
          <a:stretch/>
        </p:blipFill>
        <p:spPr>
          <a:xfrm>
            <a:off x="343080" y="971640"/>
            <a:ext cx="8422920" cy="2747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07" name="Rectangle 5"/>
          <p:cNvSpPr/>
          <p:nvPr/>
        </p:nvSpPr>
        <p:spPr>
          <a:xfrm>
            <a:off x="738360" y="5327640"/>
            <a:ext cx="78451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right 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TRADITIONAL DATABASE ADMINISTRATION FUNCTIONS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nalyzing and designing database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lecting DBMS and software tool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nstalling/upgrading DBM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uning database performanc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mproving query processing performanc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Managing data security, privacy, and integrit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Data backup and recover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AE354-8D84-453E-8AB9-3949E78E8767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DATA WAREHOUSE ADMINISTRATION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228600" y="13716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New role, coming with growth in data warehouse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milar to DA/DBA role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Emphasis on integration and coordination of metadata/data across many data source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pecific roles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Support decision support application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Manage data warehouse growth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Establish service level agreements regarding data warehouses and data mart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FDB24-6015-4C57-90F4-D3E6DB687067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OPEN SOURCE DB MANAGEMENT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80880" y="144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An alternative to proprietary packages such as Oracle, Microsoft SQL Server, or Microsoft Acces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MySQL is an example of an open-source DBM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Less expensive than proprietary package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Source code available, for modification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Absence of complete documentation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Ambiguous licensing concern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Not as feature-rich as proprietary DBMS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05280" indent="-3052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Vendors may not have certification program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16B5F-0DEF-47ED-A861-7CC7D29FE488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DATA SECURITY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30492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Franklin Gothic Book"/>
              </a:rPr>
              <a:t>Database Security:</a:t>
            </a: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 Protection of the data against accidental or intentional loss, destruction, or misuse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Increased difficulty due to Internet access and client/server technologies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87A5-1D4A-4D89-AB25-626BCAD29C3D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9T10:00:26Z</dcterms:created>
  <dc:creator>Michel Mitri</dc:creator>
  <dc:description/>
  <cp:keywords/>
  <dc:language>en-US</dc:language>
  <cp:lastModifiedBy>ULOFTKE</cp:lastModifiedBy>
  <cp:lastPrinted>1998-01-19T09:29:56Z</cp:lastPrinted>
  <dcterms:modified xsi:type="dcterms:W3CDTF">2012-07-31T15:34:50Z</dcterms:modified>
  <cp:revision>587</cp:revision>
  <dc:subject/>
  <dc:title> Data and Database Administration</dc:title>
</cp:coreProperties>
</file>